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E38-25CF-4800-B8E2-2EFC1ACA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71E-2F6E-4F02-BE71-E67F639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D53-0FD7-4BBD-BD13-12185809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561-8F87-436B-9EC4-0A5A36C6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C36-B52E-4A29-9D88-0C4A834E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EED4-7826-44F9-9B15-259ADD9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121C-01D9-4C87-A4AE-65F7A70C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AA7-834D-4E85-A120-0A5A5428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C36-CB9E-4E63-BFD3-E6B479E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E3F1-0B4E-4981-A245-EE98C7B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6EA9-31D8-49D1-B3C2-AE00AF6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C1B-D66D-4B94-A862-52E807D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5C5-0A15-44DB-9D5E-54E6A26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C72C-459B-4B73-8E3B-A75261B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38DF-E410-4EE5-BB6D-B07396A7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556-1246-4611-8D67-2944A2D4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736-2CEE-4AB9-8670-00413740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F24-BAF5-4994-A573-B3E82140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AD6-4CF6-446D-8E5C-DA21BC2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374-E835-44CE-8259-99A6C71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9DF-3659-4B3C-AB31-95870BD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5A0-25C9-4C8C-9D1A-6696F48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EB6-B8F3-4CB0-8ED2-CC19CFF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D32-719E-4FE5-93F9-1D46EA5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595-A7AB-481D-8420-A1BE89BF358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B5D-505F-4EDB-86D3-D0A1C7CFA51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1066680"/>
            <a:ext cx="687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title does Charles, the oldest son of the British Queen, have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331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58164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prince of Wales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